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F0D-0CFC-449F-BD4D-E0943952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47B-EBE8-4B3F-9505-13BB9B6E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3FA-FD3E-4E08-8046-60A3C04D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AFB-0CD1-4CCB-9724-1C7C043C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B93D-0984-4EED-B5C7-2CDD2501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190A-91F4-4EF2-9711-FF0D7EB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3A2-3249-425B-BB58-B5126CF6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844-8118-4AD2-A89D-14756D3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1431-ED94-4523-8133-9F86B5B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F930-5EBC-4F85-BF73-DC28BD79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C6FD-54CB-4E3C-806D-A9EFE0EE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8E9-A03B-4369-B536-267934EF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685C-DDA0-4080-8AFA-01D95F2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29E8-C8D0-4A3E-A078-7CF70C7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5CB0-5885-4152-A4C4-B689607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234D-53A5-4A2B-8835-DF27C644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5FBB-799B-491A-BA2F-5076330E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3CC-66E3-42AA-9BC8-E75B7EBA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DBF-237E-4DA0-A842-D8DFE4C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9C2-E646-455D-888E-5538C63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00A-3ABE-4CB9-9A14-3DB1936F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263-1E60-42F1-BC0D-BC1F2C4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A2F-40E0-42FD-9049-85D0029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BBC-3090-4F0A-B640-497832BB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CED0-8F22-4005-A9CA-270C1FE831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E82D-F48C-461A-952B-66BCEC0CC9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saimperial.net/pics/Mexican%2520Flag%25201st%2520Empire.gif&amp;imgrefurl=http://www.casaimperial.net/pictures.htm&amp;usg=__QK7xiHTaRjXaAMWgmm87ecdfQ7c=&amp;h=442&amp;w=595&amp;sz=25&amp;hl=en&amp;start=3&amp;um=1&amp;itbs=1&amp;tbnid=PiXK3zN4QNKGUM:&amp;tbnh=100&amp;tbnw=135&amp;prev=/images%3Fq%3Dmexico%2Bflag%26um%3D1%26hl%3Den%26safe%3Dactive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flagsandanthems.com/media/flags/flag-cuba.gif&amp;imgrefurl=http://flagsandanthems.com/flag-cuba.html&amp;usg=__USWll0hPHNZ5qYXmjwBWGr5XyBM=&amp;h=333&amp;w=500&amp;sz=4&amp;hl=en&amp;start=2&amp;um=1&amp;itbs=1&amp;tbnid=wk-O8QhitCHx_M:&amp;tbnh=87&amp;tbnw=130&amp;prev=/images%3Fq%3Dcuba%2Bflag%26um%3D1%26hl%3Den%26safe%3Dactive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i722.photobucket.com/albums/ww228/UMassMedia/Spanish%2520Images/spain-flag.gif&amp;imgrefurl=http://media.photobucket.com/image/spanish%2520flag/UMassMedia/Spanish%2520Images/spain-flag.gif%3Fo%3D100%26co%3D10&amp;usg=__kYy6WFR9XmFuvsQV_ZSxf_z3E-8=&amp;h=302&amp;w=453&amp;sz=6&amp;hl=en&amp;start=3&amp;um=1&amp;itbs=1&amp;tbnid=PD4dXmxHBB9IOM:&amp;tbnh=85&amp;tbnw=127&amp;prev=/images%3Fq%3Dflag%2Bof%2Bspain%26um%3D1%26hl%3Den%26safe%3Dactive%26sa%3DG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372.photobucket.com/albums/oo170/Pedro07_2008/fc_barcelona_logo.jpg&amp;imgrefurl=http://cgi.ebay.com/Youth-Barcelona-Soccer-Jersey-LYCRA-BARCA-Jersey-Small-/300366883145&amp;usg=__7u3Ob4vIJm16zahlOflYgdvVhSQ=&amp;h=320&amp;w=316&amp;sz=10&amp;hl=en&amp;start=1&amp;um=1&amp;itbs=1&amp;tbnid=a7l-8PXJSy-qrM:&amp;tbnh=118&amp;tbnw=117&amp;prev=/images%3Fq%3Dbarcelona%2Bsoccer%2Blogo%26um%3D1%26hl%3Den%26safe%3Dactive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obinchung.com/articles/articles/top5/top-5-richest-football-clubs/real_madrid_logo.jpg.jpeg&amp;imgrefurl=http://www.robinchung.com/articles/articles/top5/top-5-richest-football-clubs/top-5-richest-clubs.html&amp;usg=__cFhFNauQAc_PRekihBmrYL7yF-E=&amp;h=310&amp;w=310&amp;sz=20&amp;hl=en&amp;start=10&amp;um=1&amp;itbs=1&amp;tbnid=m0QYrCHvOvSZ8M:&amp;tbnh=117&amp;tbnw=117&amp;prev=/images%3Fq%3Dreal%2Bmadrid%26um%3D1%26hl%3Den%26safe%3Dactive%26tbs%3Disch: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Magneto"/>
              </a:rPr>
              <a:t>Las classes de espano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aime y Henr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s Bande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xico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ndura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lomb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tados Unido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uerto 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pan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u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genti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b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l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800600"/>
            <a:ext cx="2514600" cy="1862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4876920"/>
            <a:ext cx="2457360" cy="164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572000"/>
            <a:ext cx="2590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gneto"/>
              </a:rPr>
              <a:t>Los depo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utb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8862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571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57200" y="396252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4:13Z</dcterms:created>
  <dc:creator>WSFCS Workstation</dc:creator>
  <dc:description/>
  <dc:language>en-US</dc:language>
  <cp:lastModifiedBy>WSFCS Workstation</cp:lastModifiedBy>
  <dcterms:modified xsi:type="dcterms:W3CDTF">2010-04-30T18:56:34Z</dcterms:modified>
  <cp:revision>3</cp:revision>
  <dc:subject/>
  <dc:title>Las classes de espanol</dc:title>
</cp:coreProperties>
</file>